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8417-9CC5-445E-8565-BB63D8FC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92CF-46AF-471F-852A-C4A30A44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66C-6B8B-4A58-B5C2-50BFC9F7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C11B-5648-45D2-B3B6-7733FE060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680D-EA20-46A2-A4EF-9D7D2269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9AFD-DB56-4C18-8021-B21EB28B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61C35-D800-4B33-BFB8-BA89EEEF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9515-0096-49D8-9D55-9CAC440E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CBF3-B425-4C1C-A51D-26C26CAB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6FC-4463-4128-9C9D-EB3B0EDDA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385B-C3CD-4322-A62A-E16A7A1A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0696-FC0C-45E6-870D-2D4A46FA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3A41-0D69-4E11-8219-DB2D5CB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0657-74C7-465E-8A4C-51B289C5D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4C892-3F38-4528-A23B-3134342FB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6517-6ABB-44AD-8080-45904E51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35232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944600"/>
            <a:ext cx="250236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DB7F-42C2-4541-B9DE-442F91BF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005D-5EE5-447E-90B5-EAECD062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007-8913-4E54-B4E6-18575DF6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B52-BF58-4CC4-82DC-F9A5F1D7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1980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226B-A80A-4B59-87C9-92930EFD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46EC-EDFC-4151-B1CF-75026A17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94460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B1F-E3D2-4BF8-B3B5-5EEA8AB9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352320"/>
            <a:ext cx="37926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944600"/>
            <a:ext cx="7772400" cy="145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904-D769-4D39-99F6-9B4A359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 fontScale="73000"/>
          </a:bodyPr>
          <a:p>
            <a:pPr marL="444600" indent="-444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2880" indent="-389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1160" indent="-333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7908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12800" indent="-277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6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27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27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702DC-4A62-474D-AB0E-FD86CB199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3972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98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098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08C92-338A-4537-AA9E-5216C47C3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24379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0300c"/>
                </a:solidFill>
                <a:latin typeface="Arial Black"/>
              </a:rPr>
              <a:t>Questioning Skills</a:t>
            </a: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59436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Workshop – 20 Septem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0300c"/>
                </a:solidFill>
                <a:latin typeface="Arial Black"/>
              </a:rPr>
              <a:t>There are no bad answers just bad questions</a:t>
            </a:r>
            <a:endParaRPr b="0" lang="en-US" sz="32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ective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e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gage stud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pose student ‘knowledg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enerate correct responses that may vary in depth and brea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mote mental engagement an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sight into students’ understanding and/or thin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students opportunities for learner-controlled 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 insights to the teacher as to the likely best next steps for promoting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0300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eab9c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23:02:58Z</dcterms:created>
  <dc:creator>Kim Scott</dc:creator>
  <dc:description/>
  <cp:keywords/>
  <dc:language>en-US</dc:language>
  <cp:lastModifiedBy>Kim Scott</cp:lastModifiedBy>
  <dcterms:modified xsi:type="dcterms:W3CDTF">2008-09-18T02:31:17Z</dcterms:modified>
  <cp:revision>3</cp:revision>
  <dc:subject/>
  <dc:title>Questioning Skill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31033</vt:lpwstr>
  </property>
</Properties>
</file>